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B8372-0935-484F-B13A-58CD7BFF7A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1883D-6F9D-4239-A4B1-AC54343EC8E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3E750-3CE1-41A4-A96F-F0FB7ED6065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01C7A-531E-4801-9C7F-06DBFA8D95B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C758F-0808-43DA-8166-F587914623F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218FF-761A-4E50-AD40-47AE3F198A4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417A9-305E-4EF4-A0D6-5236F65A88C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3F9CF-770D-4170-8648-6B9D3E7A506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FAF8C-02B8-49E1-8969-01512C94070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4BCD6-88DC-4A51-8D62-CE6F6CEFBAC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E4203-49C4-4123-B920-49ED0933BFC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F3ED0D-E39E-48BC-9D4D-55B1F24F62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0BD3C-5D21-465C-9B16-EBF8235065E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91B13C-9FF9-459F-87E9-00294AB645A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0A5685-BC37-472D-BE06-64FAACE921C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E6CDBE-CC94-4BA7-8C36-2122F8B83DC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BCF72C-FE98-4D6A-89FB-EBED96C4B27A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FB23C5-E0FE-43FB-8735-42BB5A27D1F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865811-0F49-4A86-BE19-66D2DF86A1E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0177F3-62A6-4B4E-9C61-31F32032E8D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95E2BF-3CC4-4BF5-9C9C-719113CABB8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817C13-C2E3-45C7-ADD9-8E193990126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EBACA7-8765-49B1-AE73-1405C74A06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DDCD3-938F-4FB4-9761-DEC60CBFB44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4AC9F9-C1CA-4382-B537-4631CE3516B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B1803D-E62C-4721-9586-69E9EBB49E7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106414-6AD1-4CF2-8B8F-B894FF07839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644D4A-602C-4D3C-9DB1-CF5A6D8B339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0E96A1-ACB2-4BE8-A19A-C14122A7D08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32A305-E43C-4B9C-B88B-AD78A21FEE7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6B01EA-9559-4934-B100-CEFFDFAD2912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408F53-A404-4C56-8193-3D361F5527D3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E7158A-0B17-412A-A2D2-CCBF2AAFDCDE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FE5AA7-6E9D-437B-84BB-C995DE44DB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A7E00-9DDC-4767-BB0D-FA79D38081DE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4E821E-FDE0-4F18-96B0-A0BB2D5EFD4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A5B503-6DA5-4395-A920-08105437C99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011DD4-FF51-4D4F-BE77-BFAD9CF5AB1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BD962-5643-491F-8D5A-D160E45ABD42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7DD59-A9C8-4ECA-87C1-FD7FF3437299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DC57F-F866-4DCD-BB0E-C5A523AC7AB8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9F180-9C84-4515-9A70-A8C699684DA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FF7C2-C966-4E44-AD13-0EF7EC7C142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CD9E8-A387-463C-A1BA-5B205EAD171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48FAA-8E89-4CA1-8B44-F2911C6F408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4FC9C-1801-44AB-8911-D0B6992BA60B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43C7B-BE2C-462F-9413-C392E363045D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3DD01-590C-40FB-8A43-607A4693178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37BC5-BA25-463D-842C-2513BFE59D99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1A742-65A6-4657-BF32-F5527234F29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83E66-07FD-4D50-8C6B-D8DDA372F64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09047-94E9-4E93-A666-0229786EA5C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9ACEC-91DF-4DF3-B0A6-B8F55A18CA2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B9C82-FD09-4085-8EA9-D5DFD6F4D37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FECA4-4A37-41B6-907C-42FC51A0EB4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DE269-DC30-4113-B412-27143FFAF7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9F48B-F5BA-4C81-903A-1F27F0BC67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759B7-E181-4AC8-B734-7F3A3A21C8F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5C1C8-3EC1-44AA-AB7C-D4235458DE6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EDDA5-02C2-40A5-8326-5FFC97C08FC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A269B-52FD-46C2-AB20-20CF248ED26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9DB0B-D52A-4D0A-B039-33465E560F0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417C-948F-4974-9ADF-7295B0D0A54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44DA-C42F-4917-A5E8-ED555883169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4EC5-4BA5-4B6E-AB30-4E8474DC1ED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55C8-863A-410A-AF10-3180E12CB56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7D3A-2278-46D3-8203-9B7F8055EF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C0517-92E5-480D-8E46-3C10DB1FE3B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6045-E7D0-45FB-82EB-25FA393A029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160E-A7D5-45CF-AFA2-1F7EE4356EA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08A2-2613-4AD1-B902-B66F87277A0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82EF-5B4B-4628-A697-E5C4DD03E38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388E-0FF0-4379-8923-0E7ED1A9859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A33D-F11A-4C6B-BF54-804DB4FB331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B046-489D-4B5F-9D70-E3BCDF00766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F6D523-5CA4-4D58-893E-312EE9686CD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758130-CB94-4952-A09D-26BC137F182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CB59BD-4D27-4C50-BDBB-20DFAC995C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DA91F-CDB0-4175-B951-DCA3DF7BF6B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01F508-0E76-44AE-A60B-AE585982BB7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9D9F0A-0022-4AF7-B655-DA44E13360A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E186FD-5152-46A5-B5B4-432907A99F4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03A09E-6699-4E16-AA55-0F85118979E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41D8E6-97F6-446D-A084-C1D8017C8A3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395B3D-A07E-4CA0-8791-08BD298FFE4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9F02FB-783A-46D9-B2A5-C46D8FF1F5E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A93362-5ED9-425B-80B6-32A3CCDFD6C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D79A05-0730-43A4-98A4-7FEC1D03D37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155C93-ADE0-429D-91D2-141512D7E3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6B58A-0784-442A-809F-B561BECCDA2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36BDD7-A4A9-4B53-8E20-C2BC345931A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EE0567-1E4A-4BAA-B91B-85CE82CE72A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F829A6-3D6D-4599-9DA6-76A53FB437A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032F86-636E-41AC-8147-EC602E28836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EEAF49-9103-4EF6-B0F6-8CA2DE24F3A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4D5370-E2EB-40F3-82CB-A9DF78BDB2C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E8F27A-7277-452A-8069-7981DDDD2D4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157950-F71E-443B-A933-46BA67021C1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D5CECA-8112-43AB-B752-31A22E61648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53DF9A-15DD-423E-819D-BB57ADF0F0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78265-0A8E-4422-84A3-6846689FBF4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F81EC6-DA84-4CB5-875C-A0BAE7B60A0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475FF-F8BF-46EE-97A7-DFD8DE66F07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E5CEC-D5C7-4619-A8F8-CB3A5D5BCBB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AFFDE-4F53-453F-B2F3-39E4A70DD06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F86C5-82A7-4A97-9A0D-9037FC34DAC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92AFA-7A77-451D-BA69-6D65415FD7D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03703-DFC0-405E-9BFF-E09016BAE3F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D83D5-2EAD-4B43-8CAA-7C453FA0A0B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E5DE5-2929-4959-85F0-80113F7478E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B20A1-0EC4-454E-A345-735974AE78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CED88-DC9D-4C63-916C-8AFA2A77AEC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2899A-8796-4657-94B1-037B614C65B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556C7-C785-44FD-AD99-F8354634F19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87C54-DB3F-4EC1-8EF2-746D0A4F484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BEF6B1-18DE-4692-96D7-9E6D7910935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5D8C81-E0E1-442A-BEF6-0629F42A127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E20B5E-4B13-4E92-86D4-51E88EDCBB2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70E74B-4D88-43AE-B51E-3F40C6ADE40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AF801D-1653-4B60-ACF8-820B0CD78AD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466B0D-3CAA-45D5-9157-CC62C5B5E9B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D9598A-1574-4AC6-825D-6139C7975C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ED17B-48AC-4766-8E1B-25FC46EE851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2343A1-95FC-4955-B660-4AA76A5F6BA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2F2942-F88C-48E4-A047-F9354094EE3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855107-625F-4E49-9824-C0039E0B794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EEA77B-BA68-4DCE-84E5-ADFCF8BAAB2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93DE5F-04C8-4042-8DA8-9593E8E6308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CAEAC9-5769-4B06-AFF2-FB8DCB47850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4B7A81-28C7-4964-A416-6B35E8FD003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B0F695-A293-4572-861A-022D667F516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A0EF1C-F22D-4CD8-9D12-B1BF610941D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AFC18B-4033-4C0F-BC46-EA71BC8CAA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423BD-249A-44EC-AA61-99408CB6024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258CC2-BF34-47E3-8661-D4A4452E0D2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B8D36C-7912-49F2-8B3E-58DC5800770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9F6214-28F8-4EE5-9D1E-040B48AF32B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83C2B9-B13A-49FA-9C47-B81B3CF701B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86DACA-9287-4452-8D65-6116BB707FD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145D8E-AEB6-4295-A63A-5ED35FD49D1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B4E0B4-6DCB-4186-8C98-6ED2ED7F89A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AA0E7-F790-433E-98C2-577D2083AAE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B6E4A-6EC6-421B-A9A5-C5E7FA7D081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74410-1FEB-4C60-B25F-2BF4F7DA6F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3.xml"/><Relationship Id="rId13" Type="http://schemas.openxmlformats.org/officeDocument/2006/relationships/slideLayout" Target="../slideLayouts/slideLayout14.xml"/><Relationship Id="rId14" Type="http://schemas.openxmlformats.org/officeDocument/2006/relationships/slideLayout" Target="../slideLayouts/slideLayout15.xml"/><Relationship Id="rId15" Type="http://schemas.openxmlformats.org/officeDocument/2006/relationships/slideLayout" Target="../slideLayouts/slideLayout16.xml"/><Relationship Id="rId16" Type="http://schemas.openxmlformats.org/officeDocument/2006/relationships/slideLayout" Target="../slideLayouts/slideLayout17.xml"/><Relationship Id="rId17" Type="http://schemas.openxmlformats.org/officeDocument/2006/relationships/slideLayout" Target="../slideLayouts/slideLayout18.xml"/><Relationship Id="rId18" Type="http://schemas.openxmlformats.org/officeDocument/2006/relationships/slideLayout" Target="../slideLayouts/slideLayout19.xml"/><Relationship Id="rId19" Type="http://schemas.openxmlformats.org/officeDocument/2006/relationships/slideLayout" Target="../slideLayouts/slideLayout20.xml"/><Relationship Id="rId20" Type="http://schemas.openxmlformats.org/officeDocument/2006/relationships/slideLayout" Target="../slideLayouts/slideLayout21.xml"/><Relationship Id="rId21" Type="http://schemas.openxmlformats.org/officeDocument/2006/relationships/slideLayout" Target="../slideLayouts/slideLayout22.xml"/><Relationship Id="rId22" Type="http://schemas.openxmlformats.org/officeDocument/2006/relationships/slideLayout" Target="../slideLayouts/slideLayout23.xml"/><Relationship Id="rId2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bin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-431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  <a:p>
            <a:pPr lvl="1" marL="971640" indent="-463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  <a:p>
            <a:pPr lvl="2" marL="1498680" indent="-507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  <a:p>
            <a:pPr lvl="3" marL="2041560" indent="-568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  <a:p>
            <a:pPr lvl="4" marL="2498760" indent="-56844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  <a:p>
            <a:pPr lvl="5" marL="2498760" indent="-568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  <a:p>
            <a:pPr lvl="6" marL="2498760" indent="-568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13920" y="6388920"/>
            <a:ext cx="272880" cy="299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Questrial"/>
                <a:ea typeface="Quest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D45D1-6E00-4DF3-874D-30BEF2C01B79}" type="slidenum">
              <a:rPr b="0" lang="en-US" sz="1200" spc="-1" strike="noStrike">
                <a:solidFill>
                  <a:srgbClr val="ffffff"/>
                </a:solidFill>
                <a:latin typeface="Questrial"/>
                <a:ea typeface="Quest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bin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-431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  <a:p>
            <a:pPr lvl="1" marL="971640" indent="-463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  <a:p>
            <a:pPr lvl="2" marL="1498680" indent="-507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  <a:p>
            <a:pPr lvl="3" marL="2041560" indent="-568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  <a:p>
            <a:pPr lvl="4" marL="2498760" indent="-56844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  <a:p>
            <a:pPr lvl="5" marL="2498760" indent="-568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  <a:p>
            <a:pPr lvl="6" marL="2498760" indent="-568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sldNum" idx="10"/>
          </p:nvPr>
        </p:nvSpPr>
        <p:spPr>
          <a:xfrm>
            <a:off x="8429760" y="6388920"/>
            <a:ext cx="257040" cy="299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88888"/>
                </a:solidFill>
                <a:latin typeface="Gill Sans"/>
                <a:ea typeface="Gill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21E29-075B-430D-B76D-E18FF99AA95E}" type="slidenum">
              <a:rPr b="0" lang="en-US" sz="1200" spc="-1" strike="noStrike">
                <a:solidFill>
                  <a:srgbClr val="888888"/>
                </a:solidFill>
                <a:latin typeface="Gill Sans"/>
                <a:ea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bin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-431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  <a:p>
            <a:pPr lvl="1" marL="971640" indent="-463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  <a:p>
            <a:pPr lvl="2" marL="1498680" indent="-507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  <a:p>
            <a:pPr lvl="3" marL="2041560" indent="-568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  <a:p>
            <a:pPr lvl="4" marL="2498760" indent="-56844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  <a:p>
            <a:pPr lvl="5" marL="2498760" indent="-568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  <a:p>
            <a:pPr lvl="6" marL="2498760" indent="-568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sldNum" idx="11"/>
          </p:nvPr>
        </p:nvSpPr>
        <p:spPr>
          <a:xfrm>
            <a:off x="8429760" y="6388920"/>
            <a:ext cx="257040" cy="299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88888"/>
                </a:solidFill>
                <a:latin typeface="Gill Sans"/>
                <a:ea typeface="Gill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F32D3-6703-4248-B7E6-F61E990CAC02}" type="slidenum">
              <a:rPr b="0" lang="en-US" sz="1200" spc="-1" strike="noStrike">
                <a:solidFill>
                  <a:srgbClr val="888888"/>
                </a:solidFill>
                <a:latin typeface="Gill Sans"/>
                <a:ea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bin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-431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  <a:p>
            <a:pPr lvl="1" marL="971640" indent="-463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  <a:p>
            <a:pPr lvl="2" marL="1498680" indent="-507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  <a:p>
            <a:pPr lvl="3" marL="2041560" indent="-568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  <a:p>
            <a:pPr lvl="4" marL="2498760" indent="-56844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  <a:p>
            <a:pPr lvl="5" marL="2498760" indent="-568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  <a:p>
            <a:pPr lvl="6" marL="2498760" indent="-568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sldNum" idx="12"/>
          </p:nvPr>
        </p:nvSpPr>
        <p:spPr>
          <a:xfrm>
            <a:off x="8429760" y="6388920"/>
            <a:ext cx="257040" cy="299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88888"/>
                </a:solidFill>
                <a:latin typeface="Gill Sans"/>
                <a:ea typeface="Gill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9CB8D-D295-4AF4-A6A2-1EC407614976}" type="slidenum">
              <a:rPr b="0" lang="en-US" sz="1200" spc="-1" strike="noStrike">
                <a:solidFill>
                  <a:srgbClr val="888888"/>
                </a:solidFill>
                <a:latin typeface="Gill Sans"/>
                <a:ea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Shape 96"/>
          <p:cNvGrpSpPr/>
          <p:nvPr/>
        </p:nvGrpSpPr>
        <p:grpSpPr>
          <a:xfrm>
            <a:off x="0" y="6696000"/>
            <a:ext cx="9264600" cy="258840"/>
            <a:chOff x="0" y="6696000"/>
            <a:chExt cx="9264600" cy="258840"/>
          </a:xfrm>
        </p:grpSpPr>
        <p:grpSp>
          <p:nvGrpSpPr>
            <p:cNvPr id="40" name="Shape 97"/>
            <p:cNvGrpSpPr/>
            <p:nvPr/>
          </p:nvGrpSpPr>
          <p:grpSpPr>
            <a:xfrm>
              <a:off x="0" y="6814440"/>
              <a:ext cx="9264600" cy="140400"/>
              <a:chOff x="0" y="6814440"/>
              <a:chExt cx="9264600" cy="140400"/>
            </a:xfrm>
          </p:grpSpPr>
          <p:grpSp>
            <p:nvGrpSpPr>
              <p:cNvPr id="41" name="Shape 98"/>
              <p:cNvGrpSpPr/>
              <p:nvPr/>
            </p:nvGrpSpPr>
            <p:grpSpPr>
              <a:xfrm>
                <a:off x="0" y="6814440"/>
                <a:ext cx="3751920" cy="140400"/>
                <a:chOff x="0" y="6814440"/>
                <a:chExt cx="3751920" cy="140400"/>
              </a:xfrm>
            </p:grpSpPr>
            <p:pic>
              <p:nvPicPr>
                <p:cNvPr id="42" name="Shape 99" descr="Shape 99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6814440"/>
                  <a:ext cx="1901520" cy="140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Shape 100" descr="Shape 100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850400" y="6814440"/>
                  <a:ext cx="1901520" cy="140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4" name="Shape 101"/>
              <p:cNvGrpSpPr/>
              <p:nvPr/>
            </p:nvGrpSpPr>
            <p:grpSpPr>
              <a:xfrm>
                <a:off x="3700800" y="6814440"/>
                <a:ext cx="3751920" cy="140400"/>
                <a:chOff x="3700800" y="6814440"/>
                <a:chExt cx="3751920" cy="140400"/>
              </a:xfrm>
            </p:grpSpPr>
            <p:pic>
              <p:nvPicPr>
                <p:cNvPr id="45" name="Shape 102" descr="Shape 102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700800" y="6814440"/>
                  <a:ext cx="1901520" cy="140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" name="Shape 103" descr="Shape 103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551200" y="6814440"/>
                  <a:ext cx="1901520" cy="140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47" name="Shape 104" descr="Shape 104"/>
              <p:cNvPicPr/>
              <p:nvPr/>
            </p:nvPicPr>
            <p:blipFill>
              <a:blip r:embed="rId6"/>
              <a:stretch/>
            </p:blipFill>
            <p:spPr>
              <a:xfrm>
                <a:off x="7363080" y="6814440"/>
                <a:ext cx="1901520" cy="140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8" name="Shape 105"/>
            <p:cNvGrpSpPr/>
            <p:nvPr/>
          </p:nvGrpSpPr>
          <p:grpSpPr>
            <a:xfrm>
              <a:off x="0" y="6696000"/>
              <a:ext cx="9264600" cy="140400"/>
              <a:chOff x="0" y="6696000"/>
              <a:chExt cx="9264600" cy="140400"/>
            </a:xfrm>
          </p:grpSpPr>
          <p:grpSp>
            <p:nvGrpSpPr>
              <p:cNvPr id="49" name="Shape 106"/>
              <p:cNvGrpSpPr/>
              <p:nvPr/>
            </p:nvGrpSpPr>
            <p:grpSpPr>
              <a:xfrm>
                <a:off x="0" y="6696000"/>
                <a:ext cx="3751920" cy="140400"/>
                <a:chOff x="0" y="6696000"/>
                <a:chExt cx="3751920" cy="140400"/>
              </a:xfrm>
            </p:grpSpPr>
            <p:pic>
              <p:nvPicPr>
                <p:cNvPr id="50" name="Shape 107" descr="Shape 107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0" y="6696000"/>
                  <a:ext cx="1901520" cy="140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" name="Shape 108" descr="Shape 108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850400" y="6696000"/>
                  <a:ext cx="1901520" cy="140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2" name="Shape 109"/>
              <p:cNvGrpSpPr/>
              <p:nvPr/>
            </p:nvGrpSpPr>
            <p:grpSpPr>
              <a:xfrm>
                <a:off x="3700800" y="6696000"/>
                <a:ext cx="3751920" cy="140400"/>
                <a:chOff x="3700800" y="6696000"/>
                <a:chExt cx="3751920" cy="140400"/>
              </a:xfrm>
            </p:grpSpPr>
            <p:pic>
              <p:nvPicPr>
                <p:cNvPr id="53" name="Shape 110" descr="Shape 110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3700800" y="6696000"/>
                  <a:ext cx="1901520" cy="140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" name="Shape 111" descr="Shape 111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5551200" y="6696000"/>
                  <a:ext cx="1901520" cy="140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5" name="Shape 112" descr="Shape 112"/>
              <p:cNvPicPr/>
              <p:nvPr/>
            </p:nvPicPr>
            <p:blipFill>
              <a:blip r:embed="rId11"/>
              <a:stretch/>
            </p:blipFill>
            <p:spPr>
              <a:xfrm>
                <a:off x="7363080" y="6696000"/>
                <a:ext cx="1901520" cy="140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bin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-431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  <a:p>
            <a:pPr lvl="1" marL="971640" indent="-463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  <a:p>
            <a:pPr lvl="2" marL="1498680" indent="-507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  <a:p>
            <a:pPr lvl="3" marL="2041560" indent="-568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  <a:p>
            <a:pPr lvl="4" marL="2498760" indent="-56844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  <a:p>
            <a:pPr lvl="5" marL="2498760" indent="-568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  <a:p>
            <a:pPr lvl="6" marL="2498760" indent="-568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sldNum" idx="2"/>
          </p:nvPr>
        </p:nvSpPr>
        <p:spPr>
          <a:xfrm>
            <a:off x="8429760" y="6388920"/>
            <a:ext cx="257040" cy="299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88888"/>
                </a:solidFill>
                <a:latin typeface="Gill Sans"/>
                <a:ea typeface="Gill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D3D1B-16D9-4F85-B69F-28C572374741}" type="slidenum">
              <a:rPr b="0" lang="en-US" sz="1200" spc="-1" strike="noStrike">
                <a:solidFill>
                  <a:srgbClr val="888888"/>
                </a:solidFill>
                <a:latin typeface="Gill Sans"/>
                <a:ea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2"/>
    <p:sldLayoutId id="2147483663" r:id="rId13"/>
    <p:sldLayoutId id="2147483664" r:id="rId14"/>
    <p:sldLayoutId id="2147483665" r:id="rId15"/>
    <p:sldLayoutId id="2147483666" r:id="rId16"/>
    <p:sldLayoutId id="2147483667" r:id="rId17"/>
    <p:sldLayoutId id="2147483668" r:id="rId18"/>
    <p:sldLayoutId id="2147483669" r:id="rId19"/>
    <p:sldLayoutId id="2147483670" r:id="rId20"/>
    <p:sldLayoutId id="2147483671" r:id="rId21"/>
    <p:sldLayoutId id="2147483672" r:id="rId22"/>
    <p:sldLayoutId id="2147483673" r:id="rId2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bin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-431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  <a:p>
            <a:pPr lvl="1" marL="971640" indent="-463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  <a:p>
            <a:pPr lvl="2" marL="1498680" indent="-507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  <a:p>
            <a:pPr lvl="3" marL="2041560" indent="-568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  <a:p>
            <a:pPr lvl="4" marL="2498760" indent="-56844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  <a:p>
            <a:pPr lvl="5" marL="2498760" indent="-568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  <a:p>
            <a:pPr lvl="6" marL="2498760" indent="-568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3"/>
          </p:nvPr>
        </p:nvSpPr>
        <p:spPr>
          <a:xfrm>
            <a:off x="8429760" y="6388920"/>
            <a:ext cx="257040" cy="299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88888"/>
                </a:solidFill>
                <a:latin typeface="Gill Sans"/>
                <a:ea typeface="Gill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2D417-55EF-4D9E-B77F-88440CE6BE21}" type="slidenum">
              <a:rPr b="0" lang="en-US" sz="1200" spc="-1" strike="noStrike">
                <a:solidFill>
                  <a:srgbClr val="888888"/>
                </a:solidFill>
                <a:latin typeface="Gill Sans"/>
                <a:ea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bin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-431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  <a:p>
            <a:pPr lvl="1" marL="971640" indent="-463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  <a:p>
            <a:pPr lvl="2" marL="1498680" indent="-507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  <a:p>
            <a:pPr lvl="3" marL="2041560" indent="-568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  <a:p>
            <a:pPr lvl="4" marL="2498760" indent="-56844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  <a:p>
            <a:pPr lvl="5" marL="2498760" indent="-568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  <a:p>
            <a:pPr lvl="6" marL="2498760" indent="-568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Num" idx="4"/>
          </p:nvPr>
        </p:nvSpPr>
        <p:spPr>
          <a:xfrm>
            <a:off x="8429760" y="6388920"/>
            <a:ext cx="257040" cy="299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88888"/>
                </a:solidFill>
                <a:latin typeface="Gill Sans"/>
                <a:ea typeface="Gill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BF10E-E47B-4308-99C3-D8032664F468}" type="slidenum">
              <a:rPr b="0" lang="en-US" sz="1200" spc="-1" strike="noStrike">
                <a:solidFill>
                  <a:srgbClr val="888888"/>
                </a:solidFill>
                <a:latin typeface="Gill Sans"/>
                <a:ea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bin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-431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  <a:p>
            <a:pPr lvl="1" marL="971640" indent="-463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  <a:p>
            <a:pPr lvl="2" marL="1498680" indent="-507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  <a:p>
            <a:pPr lvl="3" marL="2041560" indent="-568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  <a:p>
            <a:pPr lvl="4" marL="2498760" indent="-56844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  <a:p>
            <a:pPr lvl="5" marL="2498760" indent="-568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  <a:p>
            <a:pPr lvl="6" marL="2498760" indent="-568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Num" idx="5"/>
          </p:nvPr>
        </p:nvSpPr>
        <p:spPr>
          <a:xfrm>
            <a:off x="8429760" y="6388920"/>
            <a:ext cx="257040" cy="299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88888"/>
                </a:solidFill>
                <a:latin typeface="Gill Sans"/>
                <a:ea typeface="Gill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58385-5776-43C8-A0D6-3EC9AD946D98}" type="slidenum">
              <a:rPr b="0" lang="en-US" sz="1200" spc="-1" strike="noStrike">
                <a:solidFill>
                  <a:srgbClr val="888888"/>
                </a:solidFill>
                <a:latin typeface="Gill Sans"/>
                <a:ea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bin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-431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  <a:p>
            <a:pPr lvl="1" marL="971640" indent="-463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  <a:p>
            <a:pPr lvl="2" marL="1498680" indent="-507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  <a:p>
            <a:pPr lvl="3" marL="2041560" indent="-568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  <a:p>
            <a:pPr lvl="4" marL="2498760" indent="-56844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  <a:p>
            <a:pPr lvl="5" marL="2498760" indent="-568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  <a:p>
            <a:pPr lvl="6" marL="2498760" indent="-568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6"/>
          </p:nvPr>
        </p:nvSpPr>
        <p:spPr>
          <a:xfrm>
            <a:off x="8429760" y="6388920"/>
            <a:ext cx="257040" cy="299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88888"/>
                </a:solidFill>
                <a:latin typeface="Gill Sans"/>
                <a:ea typeface="Gill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C91CA-9028-43CC-97A5-CD737EA9C411}" type="slidenum">
              <a:rPr b="0" lang="en-US" sz="1200" spc="-1" strike="noStrike">
                <a:solidFill>
                  <a:srgbClr val="888888"/>
                </a:solidFill>
                <a:latin typeface="Gill Sans"/>
                <a:ea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bin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-431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  <a:p>
            <a:pPr lvl="1" marL="971640" indent="-463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  <a:p>
            <a:pPr lvl="2" marL="1498680" indent="-507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  <a:p>
            <a:pPr lvl="3" marL="2041560" indent="-568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  <a:p>
            <a:pPr lvl="4" marL="2498760" indent="-56844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  <a:p>
            <a:pPr lvl="5" marL="2498760" indent="-568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  <a:p>
            <a:pPr lvl="6" marL="2498760" indent="-568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sldNum" idx="7"/>
          </p:nvPr>
        </p:nvSpPr>
        <p:spPr>
          <a:xfrm>
            <a:off x="8429760" y="6388920"/>
            <a:ext cx="257040" cy="299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88888"/>
                </a:solidFill>
                <a:latin typeface="Gill Sans"/>
                <a:ea typeface="Gill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93DF6-4D41-44EF-8EEF-126713E0FD03}" type="slidenum">
              <a:rPr b="0" lang="en-US" sz="1200" spc="-1" strike="noStrike">
                <a:solidFill>
                  <a:srgbClr val="888888"/>
                </a:solidFill>
                <a:latin typeface="Gill Sans"/>
                <a:ea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bin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-431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  <a:p>
            <a:pPr lvl="1" marL="971640" indent="-463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  <a:p>
            <a:pPr lvl="2" marL="1498680" indent="-507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  <a:p>
            <a:pPr lvl="3" marL="2041560" indent="-568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  <a:p>
            <a:pPr lvl="4" marL="2498760" indent="-56844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  <a:p>
            <a:pPr lvl="5" marL="2498760" indent="-568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  <a:p>
            <a:pPr lvl="6" marL="2498760" indent="-568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sldNum" idx="8"/>
          </p:nvPr>
        </p:nvSpPr>
        <p:spPr>
          <a:xfrm>
            <a:off x="8429760" y="6388920"/>
            <a:ext cx="257040" cy="299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88888"/>
                </a:solidFill>
                <a:latin typeface="Gill Sans"/>
                <a:ea typeface="Gill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2A8F1-BF08-4EB8-B989-FDC4DEC4B4D2}" type="slidenum">
              <a:rPr b="0" lang="en-US" sz="1200" spc="-1" strike="noStrike">
                <a:solidFill>
                  <a:srgbClr val="888888"/>
                </a:solidFill>
                <a:latin typeface="Gill Sans"/>
                <a:ea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bin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-431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  <a:p>
            <a:pPr lvl="1" marL="971640" indent="-463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  <a:p>
            <a:pPr lvl="2" marL="1498680" indent="-507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  <a:p>
            <a:pPr lvl="3" marL="2041560" indent="-568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  <a:p>
            <a:pPr lvl="4" marL="2498760" indent="-56844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  <a:p>
            <a:pPr lvl="5" marL="2498760" indent="-568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  <a:p>
            <a:pPr lvl="6" marL="2498760" indent="-568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bi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9"/>
          </p:nvPr>
        </p:nvSpPr>
        <p:spPr>
          <a:xfrm>
            <a:off x="8429760" y="6388920"/>
            <a:ext cx="257040" cy="299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88888"/>
                </a:solidFill>
                <a:latin typeface="Gill Sans"/>
                <a:ea typeface="Gill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F0A22-8AA3-414F-B0CF-6EE5D0F85236}" type="slidenum">
              <a:rPr b="0" lang="en-US" sz="1200" spc="-1" strike="noStrike">
                <a:solidFill>
                  <a:srgbClr val="888888"/>
                </a:solidFill>
                <a:latin typeface="Gill Sans"/>
                <a:ea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/>
          </p:nvPr>
        </p:nvSpPr>
        <p:spPr>
          <a:xfrm>
            <a:off x="987480" y="4359240"/>
            <a:ext cx="716904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  <a:ea typeface="Corbel"/>
              </a:rPr>
              <a:t>OGP Commitments: Best Practices</a:t>
            </a:r>
            <a:endParaRPr b="0" lang="en-US" sz="3600" spc="-1" strike="noStrike">
              <a:solidFill>
                <a:srgbClr val="ffffff"/>
              </a:solidFill>
              <a:latin typeface="Cabin"/>
            </a:endParaRPr>
          </a:p>
        </p:txBody>
      </p:sp>
      <p:pic>
        <p:nvPicPr>
          <p:cNvPr id="486" name="Shape 256" descr="Shape 256"/>
          <p:cNvPicPr/>
          <p:nvPr/>
        </p:nvPicPr>
        <p:blipFill>
          <a:blip r:embed="rId1"/>
          <a:stretch/>
        </p:blipFill>
        <p:spPr>
          <a:xfrm>
            <a:off x="3125880" y="896760"/>
            <a:ext cx="2892240" cy="2867040"/>
          </a:xfrm>
          <a:prstGeom prst="rect">
            <a:avLst/>
          </a:prstGeom>
          <a:ln w="0">
            <a:noFill/>
          </a:ln>
        </p:spPr>
      </p:pic>
      <p:sp>
        <p:nvSpPr>
          <p:cNvPr id="487" name="Shape 257"/>
          <p:cNvSpPr/>
          <p:nvPr/>
        </p:nvSpPr>
        <p:spPr>
          <a:xfrm>
            <a:off x="1571760" y="6056280"/>
            <a:ext cx="600048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rbel"/>
                <a:ea typeface="Corbel"/>
              </a:rPr>
              <a:t>OGP Support U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7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bin"/>
              </a:rPr>
              <a:t>Starred Commitments</a:t>
            </a: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grpSp>
        <p:nvGrpSpPr>
          <p:cNvPr id="509" name="Shape 310"/>
          <p:cNvGrpSpPr/>
          <p:nvPr/>
        </p:nvGrpSpPr>
        <p:grpSpPr>
          <a:xfrm>
            <a:off x="617400" y="1601640"/>
            <a:ext cx="7751880" cy="4523040"/>
            <a:chOff x="617400" y="1601640"/>
            <a:chExt cx="7751880" cy="4523040"/>
          </a:xfrm>
        </p:grpSpPr>
        <p:sp>
          <p:nvSpPr>
            <p:cNvPr id="510" name="Shape 311"/>
            <p:cNvSpPr/>
            <p:nvPr/>
          </p:nvSpPr>
          <p:spPr>
            <a:xfrm>
              <a:off x="3466800" y="3913920"/>
              <a:ext cx="2210760" cy="2210760"/>
            </a:xfrm>
            <a:prstGeom prst="ellipse">
              <a:avLst/>
            </a:prstGeom>
            <a:solidFill>
              <a:srgbClr val="d1904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Shape 312"/>
            <p:cNvSpPr/>
            <p:nvPr/>
          </p:nvSpPr>
          <p:spPr>
            <a:xfrm>
              <a:off x="3790440" y="4532040"/>
              <a:ext cx="1563120" cy="97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41400" bIns="414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500" spc="-1" strike="noStrike">
                  <a:solidFill>
                    <a:srgbClr val="ffffff"/>
                  </a:solidFill>
                  <a:latin typeface="Questrial"/>
                  <a:ea typeface="Questrial"/>
                </a:rPr>
                <a:t>  </a:t>
              </a:r>
              <a:endParaRPr b="0" lang="en-US" sz="6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Shape 313"/>
            <p:cNvSpPr/>
            <p:nvPr/>
          </p:nvSpPr>
          <p:spPr>
            <a:xfrm rot="11700000">
              <a:off x="1796400" y="4180680"/>
              <a:ext cx="1642680" cy="630000"/>
            </a:xfrm>
            <a:prstGeom prst="leftArrow">
              <a:avLst>
                <a:gd name="adj1" fmla="val 60000"/>
                <a:gd name="adj2" fmla="val 50000"/>
              </a:avLst>
            </a:prstGeom>
            <a:gradFill rotWithShape="0">
              <a:gsLst>
                <a:gs pos="0">
                  <a:srgbClr val="ac807a"/>
                </a:gs>
                <a:gs pos="100000">
                  <a:srgbClr val="e4a8a0"/>
                </a:gs>
              </a:gsLst>
              <a:lin ang="45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Shape 314"/>
            <p:cNvSpPr/>
            <p:nvPr/>
          </p:nvSpPr>
          <p:spPr>
            <a:xfrm>
              <a:off x="664200" y="3443040"/>
              <a:ext cx="2210760" cy="1755360"/>
            </a:xfrm>
            <a:prstGeom prst="roundRect">
              <a:avLst>
                <a:gd name="adj" fmla="val 10000"/>
              </a:avLst>
            </a:prstGeom>
            <a:solidFill>
              <a:srgbClr val="ccb400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Shape 315"/>
            <p:cNvSpPr/>
            <p:nvPr/>
          </p:nvSpPr>
          <p:spPr>
            <a:xfrm>
              <a:off x="617400" y="3661560"/>
              <a:ext cx="2304360" cy="13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59040" bIns="5904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ffffff"/>
                  </a:solidFill>
                  <a:latin typeface="Questrial"/>
                  <a:ea typeface="Questrial"/>
                </a:rPr>
                <a:t>Specific &amp; measurable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Shape 316"/>
            <p:cNvSpPr/>
            <p:nvPr/>
          </p:nvSpPr>
          <p:spPr>
            <a:xfrm rot="14700000">
              <a:off x="2895480" y="2871360"/>
              <a:ext cx="1643040" cy="630000"/>
            </a:xfrm>
            <a:prstGeom prst="leftArrow">
              <a:avLst>
                <a:gd name="adj1" fmla="val 60000"/>
                <a:gd name="adj2" fmla="val 50011"/>
              </a:avLst>
            </a:prstGeom>
            <a:gradFill rotWithShape="0">
              <a:gsLst>
                <a:gs pos="0">
                  <a:srgbClr val="ac807a"/>
                </a:gs>
                <a:gs pos="100000">
                  <a:srgbClr val="e4a8a0"/>
                </a:gs>
              </a:gsLst>
              <a:lin ang="15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Shape 317"/>
            <p:cNvSpPr/>
            <p:nvPr/>
          </p:nvSpPr>
          <p:spPr>
            <a:xfrm>
              <a:off x="2319840" y="1601640"/>
              <a:ext cx="2100240" cy="1680120"/>
            </a:xfrm>
            <a:prstGeom prst="roundRect">
              <a:avLst>
                <a:gd name="adj" fmla="val 10000"/>
              </a:avLst>
            </a:prstGeom>
            <a:solidFill>
              <a:srgbClr val="ccb400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Shape 318"/>
            <p:cNvSpPr/>
            <p:nvPr/>
          </p:nvSpPr>
          <p:spPr>
            <a:xfrm>
              <a:off x="2369160" y="2170080"/>
              <a:ext cx="200196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59040" bIns="5904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ffffff"/>
                  </a:solidFill>
                  <a:latin typeface="Questrial"/>
                  <a:ea typeface="Questrial"/>
                </a:rPr>
                <a:t>Relevant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Shape 319"/>
            <p:cNvSpPr/>
            <p:nvPr/>
          </p:nvSpPr>
          <p:spPr>
            <a:xfrm rot="17700000">
              <a:off x="4605120" y="2871000"/>
              <a:ext cx="1643040" cy="630000"/>
            </a:xfrm>
            <a:prstGeom prst="leftArrow">
              <a:avLst>
                <a:gd name="adj1" fmla="val 60000"/>
                <a:gd name="adj2" fmla="val 50011"/>
              </a:avLst>
            </a:prstGeom>
            <a:gradFill rotWithShape="0">
              <a:gsLst>
                <a:gs pos="0">
                  <a:srgbClr val="ac807a"/>
                </a:gs>
                <a:gs pos="100000">
                  <a:srgbClr val="e4a8a0"/>
                </a:gs>
              </a:gsLst>
              <a:lin ang="201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Shape 320"/>
            <p:cNvSpPr/>
            <p:nvPr/>
          </p:nvSpPr>
          <p:spPr>
            <a:xfrm>
              <a:off x="4723920" y="1601640"/>
              <a:ext cx="2100240" cy="1680120"/>
            </a:xfrm>
            <a:prstGeom prst="roundRect">
              <a:avLst>
                <a:gd name="adj" fmla="val 10000"/>
              </a:avLst>
            </a:prstGeom>
            <a:solidFill>
              <a:srgbClr val="ccb400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Shape 321"/>
            <p:cNvSpPr/>
            <p:nvPr/>
          </p:nvSpPr>
          <p:spPr>
            <a:xfrm>
              <a:off x="4773240" y="1744920"/>
              <a:ext cx="2100240" cy="13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59040" bIns="5904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ffffff"/>
                  </a:solidFill>
                  <a:latin typeface="Questrial"/>
                  <a:ea typeface="Questrial"/>
                </a:rPr>
                <a:t>High potential impact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Shape 322"/>
            <p:cNvSpPr/>
            <p:nvPr/>
          </p:nvSpPr>
          <p:spPr>
            <a:xfrm rot="20700000">
              <a:off x="5703840" y="4180320"/>
              <a:ext cx="1642680" cy="630000"/>
            </a:xfrm>
            <a:prstGeom prst="leftArrow">
              <a:avLst>
                <a:gd name="adj1" fmla="val 60000"/>
                <a:gd name="adj2" fmla="val 50000"/>
              </a:avLst>
            </a:prstGeom>
            <a:gradFill rotWithShape="0">
              <a:gsLst>
                <a:gs pos="0">
                  <a:srgbClr val="ac807a"/>
                </a:gs>
                <a:gs pos="100000">
                  <a:srgbClr val="e4a8a0"/>
                </a:gs>
              </a:gsLst>
              <a:lin ang="171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Shape 323"/>
            <p:cNvSpPr/>
            <p:nvPr/>
          </p:nvSpPr>
          <p:spPr>
            <a:xfrm>
              <a:off x="6269040" y="3443040"/>
              <a:ext cx="2100240" cy="1680120"/>
            </a:xfrm>
            <a:prstGeom prst="roundRect">
              <a:avLst>
                <a:gd name="adj" fmla="val 10000"/>
              </a:avLst>
            </a:prstGeom>
            <a:solidFill>
              <a:srgbClr val="ccb400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Shape 324"/>
            <p:cNvSpPr/>
            <p:nvPr/>
          </p:nvSpPr>
          <p:spPr>
            <a:xfrm>
              <a:off x="6318360" y="3586680"/>
              <a:ext cx="2001600" cy="13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040" rIns="59040" tIns="59040" bIns="5904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ffffff"/>
                  </a:solidFill>
                  <a:latin typeface="Questrial"/>
                  <a:ea typeface="Questrial"/>
                </a:rPr>
                <a:t>Significant progress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Shape 325"/>
          <p:cNvSpPr/>
          <p:nvPr/>
        </p:nvSpPr>
        <p:spPr>
          <a:xfrm>
            <a:off x="3619440" y="4114800"/>
            <a:ext cx="1930320" cy="1763640"/>
          </a:xfrm>
          <a:custGeom>
            <a:avLst/>
            <a:gdLst>
              <a:gd name="textAreaLeft" fmla="*/ 596520 w 1930320"/>
              <a:gd name="textAreaRight" fmla="*/ 1333800 w 1930320"/>
              <a:gd name="textAreaTop" fmla="*/ 673560 h 1763640"/>
              <a:gd name="textAreaBottom" fmla="*/ 1347480 h 1763640"/>
            </a:gdLst>
            <a:ahLst/>
            <a:rect l="textAreaLeft" t="textAreaTop" r="textAreaRight" b="textAreaBottom"/>
            <a:pathLst>
              <a:path w="1931159" h="1763853">
                <a:moveTo>
                  <a:pt x="2" y="673730"/>
                </a:moveTo>
                <a:lnTo>
                  <a:pt x="737641" y="673735"/>
                </a:lnTo>
                <a:lnTo>
                  <a:pt x="965580" y="0"/>
                </a:lnTo>
                <a:lnTo>
                  <a:pt x="1193518" y="673735"/>
                </a:lnTo>
                <a:lnTo>
                  <a:pt x="1931157" y="673730"/>
                </a:lnTo>
                <a:lnTo>
                  <a:pt x="1334392" y="1090116"/>
                </a:lnTo>
                <a:lnTo>
                  <a:pt x="1562341" y="1763847"/>
                </a:lnTo>
                <a:lnTo>
                  <a:pt x="965580" y="1347455"/>
                </a:lnTo>
                <a:lnTo>
                  <a:pt x="368818" y="1763847"/>
                </a:lnTo>
                <a:lnTo>
                  <a:pt x="596767" y="1090116"/>
                </a:lnTo>
                <a:close/>
              </a:path>
            </a:pathLst>
          </a:custGeom>
          <a:gradFill rotWithShape="0">
            <a:gsLst>
              <a:gs pos="0">
                <a:srgbClr val="a83e25"/>
              </a:gs>
              <a:gs pos="100000">
                <a:srgbClr val="e2512e"/>
              </a:gs>
            </a:gsLst>
            <a:lin ang="16200000"/>
          </a:gradFill>
          <a:ln w="9360">
            <a:solidFill>
              <a:srgbClr val="cf5d4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Shape 326" descr="Shape 326"/>
          <p:cNvPicPr/>
          <p:nvPr/>
        </p:nvPicPr>
        <p:blipFill>
          <a:blip r:embed="rId1"/>
          <a:stretch/>
        </p:blipFill>
        <p:spPr>
          <a:xfrm>
            <a:off x="0" y="6686640"/>
            <a:ext cx="9144000" cy="17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bin"/>
              </a:rPr>
              <a:t>Starred Commitments</a:t>
            </a: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7530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bin"/>
              </a:rPr>
              <a:t>Macedonia National Action Plans</a:t>
            </a:r>
            <a:endParaRPr b="0" lang="en-US" sz="1800" spc="-1" strike="noStrike">
              <a:solidFill>
                <a:srgbClr val="ffffff"/>
              </a:solidFill>
              <a:latin typeface="Cabin"/>
            </a:endParaRPr>
          </a:p>
          <a:p>
            <a:pPr indent="203040">
              <a:spcBef>
                <a:spcPts val="601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bin"/>
              </a:rPr>
              <a:t>34 current commitments</a:t>
            </a:r>
            <a:endParaRPr b="0" lang="en-US" sz="1800" spc="-1" strike="noStrike">
              <a:solidFill>
                <a:srgbClr val="ffffff"/>
              </a:solidFill>
              <a:latin typeface="Cabin"/>
            </a:endParaRPr>
          </a:p>
          <a:p>
            <a:pPr indent="203040"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bin"/>
              </a:rPr>
              <a:t>86 reviewed commitments</a:t>
            </a:r>
            <a:endParaRPr b="0" lang="en-US" sz="1800" spc="-1" strike="noStrike">
              <a:solidFill>
                <a:srgbClr val="ffffff"/>
              </a:solidFill>
              <a:latin typeface="Cabin"/>
            </a:endParaRPr>
          </a:p>
          <a:p>
            <a:pPr indent="203040"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bin"/>
              </a:rPr>
              <a:t>4 starred commitments</a:t>
            </a:r>
            <a:endParaRPr b="0" lang="en-US" sz="1800" spc="-1" strike="noStrike">
              <a:solidFill>
                <a:srgbClr val="ffffff"/>
              </a:solidFill>
              <a:latin typeface="Cabin"/>
            </a:endParaRPr>
          </a:p>
          <a:p>
            <a:pPr lvl="1" marL="914400" indent="-342720">
              <a:buClr>
                <a:srgbClr val="ffffff"/>
              </a:buClr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bin"/>
              </a:rPr>
              <a:t>Anti-corruption</a:t>
            </a:r>
            <a:endParaRPr b="0" lang="en-US" sz="1800" spc="-1" strike="noStrike">
              <a:solidFill>
                <a:srgbClr val="ffffff"/>
              </a:solidFill>
              <a:latin typeface="Cabin"/>
            </a:endParaRPr>
          </a:p>
          <a:p>
            <a:pPr lvl="1" marL="914400" indent="-342720">
              <a:buClr>
                <a:srgbClr val="ffffff"/>
              </a:buClr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bin"/>
              </a:rPr>
              <a:t>Public Participation</a:t>
            </a:r>
            <a:endParaRPr b="0" lang="en-US" sz="1800" spc="-1" strike="noStrike">
              <a:solidFill>
                <a:srgbClr val="ffffff"/>
              </a:solidFill>
              <a:latin typeface="Cabin"/>
            </a:endParaRPr>
          </a:p>
          <a:p>
            <a:pPr lvl="1" marL="914400" indent="-342720">
              <a:buClr>
                <a:srgbClr val="ffffff"/>
              </a:buClr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bin"/>
              </a:rPr>
              <a:t>Procurement</a:t>
            </a:r>
            <a:endParaRPr b="0" lang="en-US" sz="1800" spc="-1" strike="noStrike">
              <a:solidFill>
                <a:srgbClr val="ffffff"/>
              </a:solidFill>
              <a:latin typeface="Cabin"/>
            </a:endParaRPr>
          </a:p>
        </p:txBody>
      </p:sp>
      <p:pic>
        <p:nvPicPr>
          <p:cNvPr id="528" name="Shape 334" descr="Shape 334"/>
          <p:cNvPicPr/>
          <p:nvPr/>
        </p:nvPicPr>
        <p:blipFill>
          <a:blip r:embed="rId1"/>
          <a:stretch/>
        </p:blipFill>
        <p:spPr>
          <a:xfrm>
            <a:off x="4392720" y="1130400"/>
            <a:ext cx="3975120" cy="54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457200" y="283680"/>
            <a:ext cx="8229600" cy="6364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  <a:p>
            <a:pPr indent="177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bin"/>
              </a:rPr>
              <a:t>Georgia </a:t>
            </a:r>
            <a:r>
              <a:rPr b="0" lang="en-US" sz="2800" spc="-1" strike="noStrike">
                <a:solidFill>
                  <a:srgbClr val="ffffff"/>
                </a:solidFill>
                <a:latin typeface="Cabin"/>
              </a:rPr>
              <a:t>committed to make phone tapping </a:t>
            </a: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bi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abin"/>
              </a:rPr>
              <a:t>data publicly available</a:t>
            </a: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  <a:p>
            <a:pPr indent="177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bin"/>
              </a:rPr>
              <a:t>Canada </a:t>
            </a:r>
            <a:r>
              <a:rPr b="0" lang="en-US" sz="2800" spc="-1" strike="noStrike">
                <a:solidFill>
                  <a:srgbClr val="ffffff"/>
                </a:solidFill>
                <a:latin typeface="Cabin"/>
              </a:rPr>
              <a:t>committed to mandatory reporting on extractives - introduce legislation on payments made to governments related to the commercial development of oil, gas, and minerals.</a:t>
            </a: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  <a:p>
            <a:pPr indent="177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bin"/>
              </a:rPr>
              <a:t>Chile </a:t>
            </a:r>
            <a:r>
              <a:rPr b="0" lang="en-US" sz="2800" spc="-1" strike="noStrike">
                <a:solidFill>
                  <a:srgbClr val="ffffff"/>
                </a:solidFill>
                <a:latin typeface="Cabin"/>
              </a:rPr>
              <a:t>committed to implementing and monitoring the recently adopted lobbying act</a:t>
            </a:r>
            <a:endParaRPr b="0" lang="en-US" sz="2800" spc="-1" strike="noStrike">
              <a:solidFill>
                <a:srgbClr val="ffffff"/>
              </a:solidFill>
              <a:latin typeface="Cabin"/>
            </a:endParaRPr>
          </a:p>
        </p:txBody>
      </p:sp>
      <p:grpSp>
        <p:nvGrpSpPr>
          <p:cNvPr id="530" name="Shape 340"/>
          <p:cNvGrpSpPr/>
          <p:nvPr/>
        </p:nvGrpSpPr>
        <p:grpSpPr>
          <a:xfrm>
            <a:off x="7602480" y="181080"/>
            <a:ext cx="1430280" cy="1382760"/>
            <a:chOff x="7602480" y="181080"/>
            <a:chExt cx="1430280" cy="1382760"/>
          </a:xfrm>
        </p:grpSpPr>
        <p:sp>
          <p:nvSpPr>
            <p:cNvPr id="531" name="Shape 341"/>
            <p:cNvSpPr/>
            <p:nvPr/>
          </p:nvSpPr>
          <p:spPr>
            <a:xfrm>
              <a:off x="7602480" y="181080"/>
              <a:ext cx="1430280" cy="1382760"/>
            </a:xfrm>
            <a:prstGeom prst="ellipse">
              <a:avLst/>
            </a:prstGeom>
            <a:solidFill>
              <a:srgbClr val="d1904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Shape 342"/>
            <p:cNvSpPr/>
            <p:nvPr/>
          </p:nvSpPr>
          <p:spPr>
            <a:xfrm>
              <a:off x="7811640" y="385200"/>
              <a:ext cx="1011600" cy="97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41400" bIns="414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500" spc="-1" strike="noStrike">
                  <a:solidFill>
                    <a:srgbClr val="ffffff"/>
                  </a:solidFill>
                  <a:latin typeface="Questrial"/>
                  <a:ea typeface="Questrial"/>
                </a:rPr>
                <a:t>  </a:t>
              </a:r>
              <a:endParaRPr b="0" lang="en-US" sz="6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Shape 343"/>
          <p:cNvSpPr/>
          <p:nvPr/>
        </p:nvSpPr>
        <p:spPr>
          <a:xfrm>
            <a:off x="7666200" y="181080"/>
            <a:ext cx="1303200" cy="1181160"/>
          </a:xfrm>
          <a:custGeom>
            <a:avLst/>
            <a:gdLst>
              <a:gd name="textAreaLeft" fmla="*/ 402480 w 1303200"/>
              <a:gd name="textAreaRight" fmla="*/ 900720 w 1303200"/>
              <a:gd name="textAreaTop" fmla="*/ 451080 h 1181160"/>
              <a:gd name="textAreaBottom" fmla="*/ 902520 h 1181160"/>
            </a:gdLst>
            <a:ahLst/>
            <a:rect l="textAreaLeft" t="textAreaTop" r="textAreaRight" b="textAreaBottom"/>
            <a:pathLst>
              <a:path w="1304847" h="1181285">
                <a:moveTo>
                  <a:pt x="1" y="451209"/>
                </a:moveTo>
                <a:lnTo>
                  <a:pt x="498410" y="451213"/>
                </a:lnTo>
                <a:lnTo>
                  <a:pt x="652424" y="0"/>
                </a:lnTo>
                <a:lnTo>
                  <a:pt x="806437" y="451213"/>
                </a:lnTo>
                <a:lnTo>
                  <a:pt x="1304846" y="451209"/>
                </a:lnTo>
                <a:lnTo>
                  <a:pt x="901623" y="730071"/>
                </a:lnTo>
                <a:lnTo>
                  <a:pt x="1055644" y="1181281"/>
                </a:lnTo>
                <a:lnTo>
                  <a:pt x="652424" y="902415"/>
                </a:lnTo>
                <a:lnTo>
                  <a:pt x="249203" y="1181281"/>
                </a:lnTo>
                <a:lnTo>
                  <a:pt x="403224" y="730071"/>
                </a:lnTo>
                <a:close/>
              </a:path>
            </a:pathLst>
          </a:custGeom>
          <a:gradFill rotWithShape="0">
            <a:gsLst>
              <a:gs pos="0">
                <a:srgbClr val="a83e25"/>
              </a:gs>
              <a:gs pos="100000">
                <a:srgbClr val="e2512e"/>
              </a:gs>
            </a:gsLst>
            <a:lin ang="16200000"/>
          </a:gradFill>
          <a:ln w="9360">
            <a:solidFill>
              <a:srgbClr val="cf5d4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Shape 262"/>
          <p:cNvSpPr/>
          <p:nvPr/>
        </p:nvSpPr>
        <p:spPr>
          <a:xfrm>
            <a:off x="777960" y="2776680"/>
            <a:ext cx="9190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ill Sans"/>
                <a:ea typeface="Gill Sans"/>
              </a:rPr>
              <a:t>Good commitments are SM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324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Shape 267"/>
          <p:cNvSpPr/>
          <p:nvPr/>
        </p:nvSpPr>
        <p:spPr>
          <a:xfrm>
            <a:off x="6469200" y="2711520"/>
            <a:ext cx="243684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700" spc="-1" strike="noStrike">
                <a:solidFill>
                  <a:srgbClr val="953734"/>
                </a:solidFill>
                <a:latin typeface="Gill Sans"/>
                <a:ea typeface="Gill Sans"/>
              </a:rPr>
              <a:t>S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Shape 268"/>
          <p:cNvSpPr/>
          <p:nvPr/>
        </p:nvSpPr>
        <p:spPr>
          <a:xfrm>
            <a:off x="601560" y="1076400"/>
            <a:ext cx="251784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ill Sans"/>
                <a:ea typeface="Gill Sans"/>
              </a:rPr>
              <a:t>Specifi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hape 269"/>
          <p:cNvSpPr/>
          <p:nvPr/>
        </p:nvSpPr>
        <p:spPr>
          <a:xfrm>
            <a:off x="1976400" y="2289240"/>
            <a:ext cx="64375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marL="168120" indent="-168120">
              <a:lnSpc>
                <a:spcPct val="100000"/>
              </a:lnSpc>
              <a:buClr>
                <a:srgbClr val="ffffff"/>
              </a:buClr>
              <a:buFont typeface="Helvetica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ndara"/>
                <a:ea typeface="Candara"/>
              </a:rPr>
              <a:t>Describes specific activities that will be underta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ffffff"/>
              </a:buClr>
              <a:buFont typeface="Helvetica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ndara"/>
                <a:ea typeface="Candara"/>
              </a:rPr>
              <a:t>Describes the problem it is trying to sol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ffffff"/>
              </a:buClr>
              <a:buFont typeface="Helvetica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ndara"/>
                <a:ea typeface="Candara"/>
              </a:rPr>
              <a:t>Describes the outcomes expected from implementing the commi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Shape 275"/>
          <p:cNvSpPr/>
          <p:nvPr/>
        </p:nvSpPr>
        <p:spPr>
          <a:xfrm>
            <a:off x="5586480" y="3024360"/>
            <a:ext cx="3440160" cy="41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500" spc="-1" strike="noStrike">
                <a:solidFill>
                  <a:srgbClr val="244061"/>
                </a:solidFill>
                <a:latin typeface="Gill Sans"/>
                <a:ea typeface="Gill Sans"/>
              </a:rPr>
              <a:t>M</a:t>
            </a:r>
            <a:endParaRPr b="0" lang="en-US" sz="2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hape 276"/>
          <p:cNvSpPr/>
          <p:nvPr/>
        </p:nvSpPr>
        <p:spPr>
          <a:xfrm>
            <a:off x="530280" y="1128600"/>
            <a:ext cx="371772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ill Sans"/>
                <a:ea typeface="Gill Sans"/>
              </a:rPr>
              <a:t>Measurab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hape 277"/>
          <p:cNvSpPr/>
          <p:nvPr/>
        </p:nvSpPr>
        <p:spPr>
          <a:xfrm>
            <a:off x="1876320" y="2352600"/>
            <a:ext cx="68565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marL="168120" indent="-168120">
              <a:lnSpc>
                <a:spcPct val="100000"/>
              </a:lnSpc>
              <a:buClr>
                <a:srgbClr val="ffffff"/>
              </a:buClr>
              <a:buFont typeface="Helvetica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ndara"/>
                <a:ea typeface="Candara"/>
              </a:rPr>
              <a:t>Broken into clear, measurable milest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ffffff"/>
              </a:buClr>
              <a:buFont typeface="Helvetica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ndara"/>
                <a:ea typeface="Candara"/>
              </a:rPr>
              <a:t>Lays out measurable, verifiable benchmarks that can demonstrate fulfillment and impr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Shape 282"/>
          <p:cNvSpPr/>
          <p:nvPr/>
        </p:nvSpPr>
        <p:spPr>
          <a:xfrm>
            <a:off x="5740560" y="2847960"/>
            <a:ext cx="3122280" cy="42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500" spc="-1" strike="noStrike">
                <a:solidFill>
                  <a:srgbClr val="4f6128"/>
                </a:solidFill>
                <a:latin typeface="Gill Sans"/>
                <a:ea typeface="Gill Sans"/>
              </a:rPr>
              <a:t>A</a:t>
            </a:r>
            <a:endParaRPr b="0" lang="en-US" sz="2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hape 283"/>
          <p:cNvSpPr/>
          <p:nvPr/>
        </p:nvSpPr>
        <p:spPr>
          <a:xfrm>
            <a:off x="608040" y="1139760"/>
            <a:ext cx="383364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ill Sans"/>
                <a:ea typeface="Gill Sans"/>
              </a:rPr>
              <a:t>Answerab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hape 284"/>
          <p:cNvSpPr/>
          <p:nvPr/>
        </p:nvSpPr>
        <p:spPr>
          <a:xfrm>
            <a:off x="2006640" y="2432160"/>
            <a:ext cx="6394320" cy="16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marL="168120" indent="-168120">
              <a:lnSpc>
                <a:spcPct val="100000"/>
              </a:lnSpc>
              <a:buClr>
                <a:srgbClr val="ffffff"/>
              </a:buClr>
              <a:buFont typeface="Helvetica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ndara"/>
                <a:ea typeface="Candara"/>
              </a:rPr>
              <a:t>Specifies ownership by listing the implementing agenc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ffffff"/>
              </a:buClr>
              <a:buFont typeface="Helvetica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ndara"/>
                <a:ea typeface="Candara"/>
              </a:rPr>
              <a:t>Specifies coordinating or supporting a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ffffff"/>
              </a:buClr>
              <a:buFont typeface="Helvetica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ndara"/>
                <a:ea typeface="Candara"/>
              </a:rPr>
              <a:t>Specifies civil society, multilateral, or private sector 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6c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Shape 289"/>
          <p:cNvSpPr/>
          <p:nvPr/>
        </p:nvSpPr>
        <p:spPr>
          <a:xfrm>
            <a:off x="6145200" y="2705040"/>
            <a:ext cx="293688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700" spc="-1" strike="noStrike">
                <a:solidFill>
                  <a:srgbClr val="974806"/>
                </a:solidFill>
                <a:latin typeface="Gill Sans"/>
                <a:ea typeface="Gill Sans"/>
              </a:rPr>
              <a:t>R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hape 290"/>
          <p:cNvSpPr/>
          <p:nvPr/>
        </p:nvSpPr>
        <p:spPr>
          <a:xfrm>
            <a:off x="549360" y="1179360"/>
            <a:ext cx="285264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ill Sans"/>
                <a:ea typeface="Gill Sans"/>
              </a:rPr>
              <a:t>Releva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hape 291"/>
          <p:cNvSpPr/>
          <p:nvPr/>
        </p:nvSpPr>
        <p:spPr>
          <a:xfrm>
            <a:off x="1908000" y="2384280"/>
            <a:ext cx="568008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marL="168120" indent="-168120">
              <a:lnSpc>
                <a:spcPct val="100000"/>
              </a:lnSpc>
              <a:buClr>
                <a:srgbClr val="ffffff"/>
              </a:buClr>
              <a:buFont typeface="Helvetica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ndara"/>
                <a:ea typeface="Candara"/>
              </a:rPr>
              <a:t>Makes relevance to open government cl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ffffff"/>
              </a:buClr>
              <a:buFont typeface="Helvetica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ndara"/>
                <a:ea typeface="Candara"/>
              </a:rPr>
              <a:t>Addresses transparency, accountability, and/or public particip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ffffff"/>
              </a:buClr>
              <a:buFont typeface="Helvetica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ndara"/>
                <a:ea typeface="Candara"/>
              </a:rPr>
              <a:t>Addresses at least one grand challe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1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Shape 296"/>
          <p:cNvSpPr/>
          <p:nvPr/>
        </p:nvSpPr>
        <p:spPr>
          <a:xfrm>
            <a:off x="5978520" y="2793960"/>
            <a:ext cx="301140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700" spc="-1" strike="noStrike">
                <a:solidFill>
                  <a:srgbClr val="5f497a"/>
                </a:solidFill>
                <a:latin typeface="Gill Sans"/>
                <a:ea typeface="Gill Sans"/>
              </a:rPr>
              <a:t>T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hape 297"/>
          <p:cNvSpPr/>
          <p:nvPr/>
        </p:nvSpPr>
        <p:spPr>
          <a:xfrm>
            <a:off x="717480" y="1197000"/>
            <a:ext cx="399888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ill Sans"/>
                <a:ea typeface="Gill Sans"/>
              </a:rPr>
              <a:t>Time-bou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hape 298"/>
          <p:cNvSpPr/>
          <p:nvPr/>
        </p:nvSpPr>
        <p:spPr>
          <a:xfrm>
            <a:off x="2098800" y="2496960"/>
            <a:ext cx="66960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marL="168120" indent="-168120">
              <a:lnSpc>
                <a:spcPct val="100000"/>
              </a:lnSpc>
              <a:buClr>
                <a:srgbClr val="ffffff"/>
              </a:buClr>
              <a:buFont typeface="Helvetica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ndara"/>
                <a:ea typeface="Candara"/>
              </a:rPr>
              <a:t>Clearly states d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ffffff"/>
              </a:buClr>
              <a:buFont typeface="Helvetica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ndara"/>
                <a:ea typeface="Candara"/>
              </a:rPr>
              <a:t>Does not have to coincide with 2-year action plan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ffffff"/>
              </a:buClr>
              <a:buFont typeface="Helvetica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ndara"/>
                <a:ea typeface="Candara"/>
              </a:rPr>
              <a:t>Milestone dates are made cl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-360" y="344520"/>
            <a:ext cx="3530520" cy="620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bin"/>
              </a:rPr>
              <a:t>EXAMPLES OF </a:t>
            </a:r>
            <a:r>
              <a:rPr b="0" lang="en-US" sz="4000" spc="-1" strike="noStrike">
                <a:solidFill>
                  <a:srgbClr val="ffffff"/>
                </a:solidFill>
                <a:latin typeface="Cabin"/>
              </a:rPr>
              <a:t>INNOVATIVE</a:t>
            </a:r>
            <a:r>
              <a:rPr b="0" lang="en-US" sz="4400" spc="-1" strike="noStrike">
                <a:solidFill>
                  <a:srgbClr val="ffffff"/>
                </a:solidFill>
                <a:latin typeface="Cabi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abin"/>
              </a:rPr>
              <a:t>PROCESSES AND</a:t>
            </a:r>
            <a:r>
              <a:rPr b="0" lang="en-US" sz="5400" spc="-1" strike="noStrike">
                <a:solidFill>
                  <a:srgbClr val="ffffff"/>
                </a:solidFill>
                <a:latin typeface="Cabi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bin"/>
              </a:rPr>
              <a:t>COMMITMENTS</a:t>
            </a:r>
            <a:r>
              <a:rPr b="0" lang="en-US" sz="2400" spc="-1" strike="noStrike">
                <a:solidFill>
                  <a:srgbClr val="ffffff"/>
                </a:solidFill>
                <a:latin typeface="Cabi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bin"/>
            </a:endParaRPr>
          </a:p>
        </p:txBody>
      </p:sp>
      <p:pic>
        <p:nvPicPr>
          <p:cNvPr id="505" name="Shape 304" descr="Shape 304"/>
          <p:cNvPicPr/>
          <p:nvPr/>
        </p:nvPicPr>
        <p:blipFill>
          <a:blip r:embed="rId1"/>
          <a:stretch/>
        </p:blipFill>
        <p:spPr>
          <a:xfrm>
            <a:off x="3570120" y="0"/>
            <a:ext cx="557388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  <a:ea typeface="Calibri"/>
              </a:rPr>
              <a:t>Developing SMART Commitments</a:t>
            </a:r>
            <a:endParaRPr b="0" lang="en-US" sz="4300" spc="-1" strike="noStrike">
              <a:solidFill>
                <a:srgbClr val="ffffff"/>
              </a:solidFill>
              <a:latin typeface="Cabin"/>
            </a:endParaRPr>
          </a:p>
        </p:txBody>
      </p:sp>
      <p:pic>
        <p:nvPicPr>
          <p:cNvPr id="507" name="Shape 166" descr="Shape 166"/>
          <p:cNvPicPr/>
          <p:nvPr/>
        </p:nvPicPr>
        <p:blipFill>
          <a:blip r:embed="rId1"/>
          <a:stretch/>
        </p:blipFill>
        <p:spPr>
          <a:xfrm>
            <a:off x="554040" y="1658880"/>
            <a:ext cx="8229600" cy="472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ordana Dimitrovska</dc:creator>
  <dc:description/>
  <dc:language>en-US</dc:language>
  <cp:lastModifiedBy>Gordana Dimitrovska</cp:lastModifiedBy>
  <dcterms:modified xsi:type="dcterms:W3CDTF">2018-05-08T20:06:40Z</dcterms:modified>
  <cp:revision>1</cp:revision>
  <dc:subject/>
  <dc:title>Slide 1</dc:title>
</cp:coreProperties>
</file>